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>
    <p:sldRg st="1" end="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7183-52E3-4CEC-B336-E4559D643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FA51-046F-4669-8528-4ED239C9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A5FB-1C33-4DAA-B6AB-E126FA98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6461-B309-4464-BF16-78EC3B1A9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564E-D0F1-45D4-B2E9-CE9C9F5C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DA4B-1780-4FF5-AFFA-51FD8596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E2C9-EC96-4323-BB74-80F0EF52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ED9A-E250-4816-A719-EE51D4FE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9D6C-0E3A-44B7-BDAD-472479B8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C5E6-1EFF-499C-B67E-7695D718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8B85-3619-4BB1-A5F4-529B8112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5A7B-871B-4462-8EBE-C6C5EEE9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BD64BA-0E61-450D-9FB2-25C569F16D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550619-345C-4AEF-B8A6-D647D373F0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apanese Wh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Dante Almon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2766960" cy="1739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Yushin Maru"/>
          <p:cNvPicPr/>
          <p:nvPr/>
        </p:nvPicPr>
        <p:blipFill>
          <a:blip r:embed="rId2"/>
          <a:stretch/>
        </p:blipFill>
        <p:spPr>
          <a:xfrm>
            <a:off x="5334120" y="609480"/>
            <a:ext cx="2438280" cy="18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hunt whal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panese whaling in the perspective of the Japanese is a good thing. They use the skin to make clothing and accessories.  It is also a food sour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whales_world_japan_whaling19"/>
          <p:cNvPicPr/>
          <p:nvPr/>
        </p:nvPicPr>
        <p:blipFill>
          <a:blip r:embed="rId1"/>
          <a:stretch/>
        </p:blipFill>
        <p:spPr>
          <a:xfrm>
            <a:off x="457200" y="4495680"/>
            <a:ext cx="281952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else does it take pla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ling in many countries is illegal but in Norway and Iceland they still do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3352680" cy="2630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5029200" y="3124080"/>
            <a:ext cx="365760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re they used fo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les are used for food, cosmetics, engineering, candles, and soap produc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ANd9GcRFgSouN8VwalHTWNACj0fayM3ADXAoecyeWgQmC6EnlhFi6RYc&amp;t=1"/>
          <p:cNvPicPr/>
          <p:nvPr/>
        </p:nvPicPr>
        <p:blipFill>
          <a:blip r:embed="rId1"/>
          <a:stretch/>
        </p:blipFill>
        <p:spPr>
          <a:xfrm>
            <a:off x="457200" y="365904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WhaleMeat"/>
          <p:cNvPicPr/>
          <p:nvPr/>
        </p:nvPicPr>
        <p:blipFill>
          <a:blip r:embed="rId2"/>
          <a:stretch/>
        </p:blipFill>
        <p:spPr>
          <a:xfrm>
            <a:off x="3276720" y="2984400"/>
            <a:ext cx="2514600" cy="1676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soap"/>
          <p:cNvPicPr/>
          <p:nvPr/>
        </p:nvPicPr>
        <p:blipFill>
          <a:blip r:embed="rId3"/>
          <a:stretch/>
        </p:blipFill>
        <p:spPr>
          <a:xfrm>
            <a:off x="6248520" y="3681360"/>
            <a:ext cx="2438280" cy="1959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ANd9GcSdXihaeTvfahy8g0lrKK6Lfm0UvGgNGuO3kfBkyAKNIR29QO4_rg"/>
          <p:cNvPicPr/>
          <p:nvPr/>
        </p:nvPicPr>
        <p:blipFill>
          <a:blip r:embed="rId4"/>
          <a:stretch/>
        </p:blipFill>
        <p:spPr>
          <a:xfrm>
            <a:off x="2971800" y="4861080"/>
            <a:ext cx="213372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 did it star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ling stems from the prehistoric times to modern day life. It has always been a part of Japanese cul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0"/>
          <p:cNvPicPr/>
          <p:nvPr/>
        </p:nvPicPr>
        <p:blipFill>
          <a:blip r:embed="rId1"/>
          <a:stretch/>
        </p:blipFill>
        <p:spPr>
          <a:xfrm>
            <a:off x="457200" y="401148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whale_hunting_05_preview"/>
          <p:cNvPicPr/>
          <p:nvPr/>
        </p:nvPicPr>
        <p:blipFill>
          <a:blip r:embed="rId2"/>
          <a:stretch/>
        </p:blipFill>
        <p:spPr>
          <a:xfrm>
            <a:off x="5410080" y="4113360"/>
            <a:ext cx="3048120" cy="20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goallover.org/greenland-could-increase-whale-hunting-wdcs/54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en.wikipedia.org/wiki/History_of_wha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ehow.com/about_5009827_what-whales-used-today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seashepherd.org/whales/japan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14:05:55Z</dcterms:created>
  <dc:creator>PA Department of Education Classrooms for the Future</dc:creator>
  <dc:description/>
  <dc:language>en-US</dc:language>
  <cp:lastModifiedBy>PA Department of Education Classrooms for the Future</cp:lastModifiedBy>
  <dcterms:modified xsi:type="dcterms:W3CDTF">2011-02-25T14:29:51Z</dcterms:modified>
  <cp:revision>6</cp:revision>
  <dc:subject/>
  <dc:title>Japanese Whaling</dc:title>
</cp:coreProperties>
</file>